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9D6-348D-4BF0-BB40-AB7398FB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E45-D42F-4E29-85F8-60B286E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123-F0D5-4946-864B-E61C7EE1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4E9-C94E-4BB1-BEC6-EC1C5D6A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6C6-0C52-48BC-A024-B0EC6B6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4AE-793E-423A-8502-EC3B55E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B1C-2413-4C8A-BC93-3F7AA4D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9B8-B11F-49D1-916F-7D510A6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4E5-12AD-42F7-88FC-FF4CEF3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4D4-6510-453B-A73C-2257F73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6F0-33F0-4FE2-B91F-D843D1D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DE8-E3BD-4FAB-B038-18B35EB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CBC-3843-438D-8F19-31F6A353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35:01Z</dcterms:created>
  <dc:creator>Grupo Editorial</dc:creator>
  <dc:description/>
  <dc:language>en-US</dc:language>
  <cp:lastModifiedBy>Grupo Editorial</cp:lastModifiedBy>
  <dcterms:modified xsi:type="dcterms:W3CDTF">2001-11-15T17:36:47Z</dcterms:modified>
  <cp:revision>1</cp:revision>
  <dc:subject/>
  <dc:title>Sin título de diapositiva</dc:title>
</cp:coreProperties>
</file>